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26B-DE3F-4C73-8DFF-A5228182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ECA0-AF38-48C8-906A-AA45E1CD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5C0-4A8D-4843-BB1D-21A0EF59D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650E-FD66-48CF-907B-AC7B1E5F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325-5744-492C-9CE4-3C51DFF5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FDE2-CAEF-4F8B-A36F-B23A351F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9BE1-7C25-492F-97F9-0302F37A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DE5-BC14-487C-9C8C-CB0EA580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A24B-C8B1-408D-8117-5FFD9742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7B6-413C-47EC-AA2F-32024AB6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7775-A8A3-492F-95BB-1A71E22C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6B32-B28F-450F-89D5-29EBE176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ECEE-126B-41D2-B08F-6AD2964F6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990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990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2505240"/>
            <a:ext cx="68580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LDO </a:t>
            </a:r>
            <a:r>
              <a:rPr b="0" lang="en-US" sz="6000" spc="-1" strike="noStrike">
                <a:solidFill>
                  <a:srgbClr val="333399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20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 Black"/>
              </a:rPr>
              <a:t>Lei nº 3.904, de 13/09/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04640" y="6389640"/>
            <a:ext cx="61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99ff"/>
                </a:solidFill>
                <a:latin typeface="Arial Black"/>
              </a:rPr>
              <a:t>Publicação  DODF  –           Suplemento ao nº 177,                      de 14/09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43000" y="863136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Arial Black"/>
              </a:rPr>
              <a:t>SETEMBRO DE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6600" y="9201240"/>
            <a:ext cx="59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99ff"/>
                </a:solidFill>
                <a:latin typeface="Arial"/>
              </a:rPr>
              <a:t>Brasília – Patrimônio Cultural da Humanida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19200" y="163368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trito Fed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813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867040" y="631800"/>
          <a:ext cx="1152360" cy="10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67040" y="631800"/>
                    <a:ext cx="115236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4:57:14Z</dcterms:created>
  <dc:creator>441104</dc:creator>
  <dc:description/>
  <dc:language>en-US</dc:language>
  <cp:lastModifiedBy>05273-8</cp:lastModifiedBy>
  <dcterms:modified xsi:type="dcterms:W3CDTF">2006-09-20T15:28:32Z</dcterms:modified>
  <cp:revision>18</cp:revision>
  <dc:subject/>
  <dc:title>Slide 1</dc:title>
</cp:coreProperties>
</file>